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6442-3CC4-48D2-A75D-9F4423064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08A7-B8CC-4363-9F65-E9AFE16B0B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2E56-034A-45A0-B85B-89337BD77A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6210-CE81-4461-A976-2B286BF458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AC6B-77B3-487C-8CC2-FF42C9B170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E33D-C7FC-4E2D-B0F1-4A4574523B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817-53A4-4F0A-98D4-76D7CCFC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4C2-AF77-4E95-85F7-07AA8415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0B0-CC1B-4F14-B313-A1D5F6B5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FFF-887A-41AD-A768-364EE73D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0C7-97BC-410B-AE6F-DC8DB21D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C27-23E0-4DD6-98B1-A511D589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873-ED4C-4A7B-990C-AB83B804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AE7-E8A7-400A-9207-F658A0DC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D51-309E-45AB-8550-3B146756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204-F0C2-44EC-A466-8B02072D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E52-221A-441A-9D36-D91CA61D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D24-D760-4AA2-9A7D-9E31FA67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D8B4-81BF-4ED1-94EC-E9355E3BC3A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Using Choral Reading and Cooperative Groups to Promote Language Learning for ELL Studen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6480" y="4419360"/>
            <a:ext cx="426708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d. 702.2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eminar in Applied Theory and Research 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usan Ch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Metho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a11ff"/>
                </a:solidFill>
                <a:uFillTx/>
                <a:latin typeface="Comic Sans MS"/>
              </a:rPr>
              <a:t>Participa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104"/>
                </a:solidFill>
                <a:latin typeface="Comic Sans MS"/>
              </a:rPr>
              <a:t>Total of six 1st grader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104"/>
                </a:solidFill>
                <a:latin typeface="Comic Sans MS"/>
              </a:rPr>
              <a:t>One classroom- 3 native Arabic speakers &amp; 3 native Spanish speaker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104"/>
                </a:solidFill>
                <a:latin typeface="Comic Sans MS"/>
              </a:rPr>
              <a:t>Lower socio-economic clas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104"/>
                </a:solidFill>
                <a:latin typeface="Comic Sans MS"/>
              </a:rPr>
              <a:t>Public elementary school located in Brooklyn, N.Y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1a11ff"/>
                </a:solidFill>
                <a:uFillTx/>
                <a:latin typeface="Comic Sans MS"/>
              </a:rPr>
              <a:t>Instrumen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104"/>
                </a:solidFill>
                <a:latin typeface="Comic Sans MS"/>
              </a:rPr>
              <a:t>Parent Surveys and Questionnaires: English, Spanish and Arabi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Parent Involvement- Rating Sca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104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.g. - Read to chil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Encourage child to do well in schoo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2.      Demographics (Part 1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.g. - What language(s) are spoken in your household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3.      Demographics (Part 2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.g. - Employment statu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 Level of educati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1a11ff"/>
                </a:solidFill>
                <a:uFillTx/>
                <a:latin typeface="Comic Sans MS"/>
              </a:rPr>
              <a:t>Instrumen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104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20104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20104"/>
                </a:solidFill>
                <a:latin typeface="Comic Sans MS"/>
              </a:rPr>
              <a:t>    </a:t>
            </a:r>
            <a:r>
              <a:rPr b="0" lang="en-US" sz="2400" spc="-1" strike="noStrike" u="sng">
                <a:solidFill>
                  <a:srgbClr val="020104"/>
                </a:solidFill>
                <a:uFillTx/>
                <a:latin typeface="Comic Sans MS"/>
              </a:rPr>
              <a:t>Student Surveys and Questionnair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31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2010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731"/>
                </a:solidFill>
                <a:latin typeface="Comic Sans MS"/>
              </a:rPr>
              <a:t>Reading Attitu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.g.-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ow do you feel when you read a book in school during free time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31"/>
                </a:solidFill>
                <a:latin typeface="Times New Roman"/>
              </a:rPr>
              <a:t>2. </a:t>
            </a:r>
            <a:r>
              <a:rPr b="0" lang="en-US" sz="2000" spc="-1" strike="noStrike">
                <a:solidFill>
                  <a:srgbClr val="fff731"/>
                </a:solidFill>
                <a:latin typeface="Comic Sans MS"/>
              </a:rPr>
              <a:t>Writing Attitu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.g. - How do you feel about writing in school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6161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6161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61616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161616"/>
                </a:solidFill>
                <a:uFillTx/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161616"/>
                </a:solidFill>
                <a:uFillTx/>
                <a:latin typeface="Comic Sans MS"/>
              </a:rPr>
              <a:t>Principal Content For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Referenc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91540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rmon, J. &amp; Morris, L. (2008). Integrated assessment for ell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Science and Children,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5(8), 49-53. Retrieved November 10, 2009, from ERIC  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tabase. (EJ790093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att, E. (2008). Teachers’ perceptions of ell education: potential solutions to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overcome the greatest challenge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Multicultural Education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Retrieved October 26, 2009, from ERIC database. (EJ793903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loome, D. &amp; Christian, B. (2004). Learning to read is who you are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Reading and Writing Quarterly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trieved November 2, 2009, from ERIC 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tabase. (EJ682476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rice, A., O’Hanlon, L. &amp; Roseberry-McKibbin, C. (2005). Serving english language learners in public school settings: a national survey.     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nguage, Speech, and Hearing Services in Schools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trieved October 16, 2009, from ERIC database. (EJ741270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amot, A. &amp; O’Malley, J. (1996). The cognitive academic language learning approach: A model for linguistically diverse classroom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he 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ementary School Journal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96(3), 259-273. Retrieved September 28 ,2009, from JSTOR database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niels, M., Ehlers-Zavala, F., Lenski, S. &amp; Sun-Irminger, X. (2006). Assessing English-language learners in mainstream classroom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Reading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eacher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trieved November 4, 2009, from ERIC database. (EJ749427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rucker, J. M. (2003, September). What reading teachers should know about ESL learner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he Reading Teach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, 57 (1), 22-29. Retrieved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ptember, 2009 from JSTOR database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rnst-Slavit, G., Maloney, C. &amp; Moore, M. (2002). Teaching English and literature to ESL student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Journal of Adolescent &amp; Adult Literac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3(2), 116- 128. Retrieved September 29, 2009, from JSTOR database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52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03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vans, S. L. &amp; Hite, E. C. (2006). Mainstreaming first-grade teachers’ understanding of strategies for accommodating the 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eeds of English language learner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eacher Education Quarterl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, 89-110. Retrieved October 5, 2009 from  EBSCO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tabase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erguson, S. &amp; Poore, M. (2008). Methodological variables in choral reading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linical Linguistic &amp; Phonetics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22(1), 132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oi:10.1080/02699200701601971. Retrieved September 29, 2009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ernsten, L. (2008). Writer identity and esl learner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Journal of Adolescent &amp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Adult Literacy,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2(1), 44-52. Retrieved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vember 2, 2009, from ERIC database. (EJ817086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gueredo, L. (2006). Using the known to chart the unknown: a review of first-guage influence on the development of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nglish-as-a-second- language spelling skill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Reading and Writing: An Interdisciplinary Journal,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9(8), 873-905.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trieved November 2, 2009, from ERIC database. (EJ748752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lores, B. &amp; Verdugo, R. (2007). English-language learners: key issue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ducation and Urban Society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Retrieved October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8, 2009, from ERIC database. (EJ749496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here, G., Sommerness, J. &amp; York-Barr, J. (2007). Collaborative teaching to increase ell student learning: a three-year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rban elementary case study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Journal of Education for Students Placed at Risk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trieved October 29, 2009, from ERIC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tabase. (EJ780679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arper, C. &amp; Jong, E. (2004). Misconceptions about teaching English-language learner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Journal of Adolescent &amp; Adult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iteracy,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8(2), 152. Retrieved September 30, 2009, from JSTOR database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0540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Jongejan,W., Siegel, L. &amp; Verhoeven, L. (2007). Predicators of reading and spelling abilities in first- and second-language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earner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Journal of Educational Psychology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trieved November 4, 2009, from ERIC database. (EJ781287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Kim, Y. (2008). The effects of integrated language-based instruction in elementary esl learning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Modern Language Journal.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trieved October 23,2009, from ERIC database. (EJ808311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eu, S. (1997, March). The dilemmas of english as second language children learning to read in an all-english mainstream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assroom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American Educational Research Association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Retrieved October 8, 2009 from ERIC database. (EJ483736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, X. &amp; Zhang, M. (2004). Why mei still cannot read and what can be done.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Journal of Adolescent and Adult Literacy,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8(2), 92-101. Retrieved November 8, 2009, from ERIC database. (EJ684276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pka, O. &amp; Siegel, S. (2007). The development of reading skills in children with English as a second language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Scientific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Studies of Reading,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(2), 105-131. Retrieved November 10, 2009, from ERIC database. (EJ772404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cCauley, D. &amp; McCauley, J. (1992). Using choral reading to promote language learning for ESL student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he Reading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eacher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45(7) 526-533. Retrieved October 21, 2009, from JSTOR database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10320"/>
            <a:ext cx="7772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1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           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           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Mohr, E. &amp; Mohr, K. (2007). Extending english-language learners’ classroom interactions using the response protocol. </a:t>
            </a:r>
            <a:r>
              <a:rPr b="0" i="1" lang="en-US" sz="1100" spc="-1" strike="noStrike">
                <a:solidFill>
                  <a:srgbClr val="020104"/>
                </a:solidFill>
                <a:latin typeface="Times New Roman"/>
              </a:rPr>
              <a:t>The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20104"/>
                </a:solidFill>
                <a:latin typeface="Times New Roman"/>
              </a:rPr>
              <a:t>                     </a:t>
            </a:r>
            <a:r>
              <a:rPr b="0" i="1" lang="en-US" sz="1100" spc="-1" strike="noStrike">
                <a:solidFill>
                  <a:srgbClr val="020104"/>
                </a:solidFill>
                <a:latin typeface="Times New Roman"/>
              </a:rPr>
              <a:t>Reading Teacher, 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60(5), 440-450. Retrieved September 28, 2009, from JSTOR database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          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Spinelli, C. (2008). Addressing the issue of cultural and linguistic diversity and   assessment: informal evaluation measures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for English language learners. </a:t>
            </a:r>
            <a:r>
              <a:rPr b="0" i="1" lang="en-US" sz="1100" spc="-1" strike="noStrike">
                <a:solidFill>
                  <a:srgbClr val="020104"/>
                </a:solidFill>
                <a:latin typeface="Times New Roman"/>
              </a:rPr>
              <a:t>Reading &amp; Writing Quarterly.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 Retrieved October 29, 2009, from ERIC database.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(EJ781942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           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Tellez, K. &amp; Waxman, H. (2002). Research synthesis on effective teaching practices for english language learners.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20104"/>
                </a:solidFill>
                <a:latin typeface="Times New Roman"/>
              </a:rPr>
              <a:t>                     </a:t>
            </a:r>
            <a:r>
              <a:rPr b="0" i="1" lang="en-US" sz="1100" spc="-1" strike="noStrike">
                <a:solidFill>
                  <a:srgbClr val="020104"/>
                </a:solidFill>
                <a:latin typeface="Times New Roman"/>
              </a:rPr>
              <a:t>Publication Series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. Retrieved September 24, 2009, from ERIC database. (EJ839028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           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Toohey, K. (2007). Are the lights coming on? how can we tell? English language learners and literacy assessment.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20104"/>
                </a:solidFill>
                <a:latin typeface="Times New Roman"/>
              </a:rPr>
              <a:t>                     </a:t>
            </a:r>
            <a:r>
              <a:rPr b="0" i="1" lang="en-US" sz="1100" spc="-1" strike="noStrike">
                <a:solidFill>
                  <a:srgbClr val="020104"/>
                </a:solidFill>
                <a:latin typeface="Times New Roman"/>
              </a:rPr>
              <a:t>Canadian Modern Language Review. 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Retrieved October 28, 2009, from ERIC database. (EJ790393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3aff"/>
                </a:solidFill>
                <a:latin typeface="Comic Sans MS"/>
              </a:rPr>
              <a:t>Table of Conten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3aff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3aff"/>
                </a:solidFill>
                <a:latin typeface="Comic Sans MS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31"/>
                </a:solidFill>
                <a:latin typeface="Comic Sans MS"/>
              </a:rPr>
              <a:t>Statement of the Proble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31"/>
                </a:solidFill>
                <a:latin typeface="Comic Sans MS"/>
              </a:rPr>
              <a:t>Statement of the Hypothes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31"/>
                </a:solidFill>
                <a:latin typeface="Comic Sans MS"/>
              </a:rPr>
              <a:t>Review of Literature and Related Literat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3aff"/>
                </a:solidFill>
                <a:latin typeface="Comic Sans MS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31"/>
                </a:solidFill>
                <a:latin typeface="Comic Sans MS"/>
              </a:rPr>
              <a:t>Participan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31"/>
                </a:solidFill>
                <a:latin typeface="Comic Sans MS"/>
              </a:rPr>
              <a:t>Instrumen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Statement of the Problem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ducators in mainstream classrooms often lack professional 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raining to teach students who come from different linguistic, cultural, and educational backgrounds. Many educators find ELLs remain unengaged or participate less than their English-fluent peers, which may result in lower achievement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Statement of the Hypothesi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104"/>
                </a:solidFill>
                <a:latin typeface="Comic Sans MS"/>
              </a:rPr>
              <a:t>HR</a:t>
            </a:r>
            <a:r>
              <a:rPr b="0" lang="en-US" sz="4000" spc="-1" strike="noStrike" baseline="-25000">
                <a:solidFill>
                  <a:srgbClr val="020104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20104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a six-week period, integrating choral reading with basic literacy skill instruction will result in an increase in the engagement and comprehension of six first-grade English-language learners (ELLs) of P.S. X, from N.Y.C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Review of Related Litera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erformance Gap between ELL and non-EL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ackground about ELL population/ misplaceme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acher Preparation: Educators Not adequately prepa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Review of Litera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1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Times New Roman"/>
              </a:rPr>
              <a:t>       </a:t>
            </a:r>
            <a:r>
              <a:rPr b="0" lang="en-US" sz="2800" spc="-1" strike="noStrike" u="sng">
                <a:solidFill>
                  <a:srgbClr val="fff731"/>
                </a:solidFill>
                <a:uFillTx/>
                <a:latin typeface="Times New Roman"/>
              </a:rPr>
              <a:t>Instructional Strateg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a11ff"/>
                </a:solidFill>
                <a:uFillTx/>
                <a:latin typeface="Times New Roman"/>
              </a:rPr>
              <a:t>Informal-authentic Assessment Measur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104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Performance-based assessme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Oral performance assessment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Portfolio Assessme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enefits of Choral Reading with Language Acquisi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     </a:t>
            </a:r>
            <a:r>
              <a:rPr b="0" lang="en-US" sz="2200" spc="-1" strike="noStrike" u="sng">
                <a:solidFill>
                  <a:srgbClr val="1a11ff"/>
                </a:solidFill>
                <a:uFillTx/>
                <a:latin typeface="Comic Sans MS"/>
              </a:rPr>
              <a:t>Low-anxiety environment </a:t>
            </a:r>
            <a:r>
              <a:rPr b="0" lang="en-US" sz="1800" spc="-1" strike="noStrike" u="sng">
                <a:solidFill>
                  <a:srgbClr val="1a11ff"/>
                </a:solidFill>
                <a:uFillTx/>
                <a:latin typeface="Comic Sans MS"/>
              </a:rPr>
              <a:t>(Confidenc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1ff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1a11ff"/>
                </a:solidFill>
                <a:latin typeface="Comic Sans MS"/>
              </a:rPr>
              <a:t>*Social Emotional Interaction and Culturally Appropriate context*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’Malley &amp; Chamot (1996)- Social-cognitive theory of motivatio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 Bandura (1993) - Social learning theory (Self-efficacy)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 Schumann (1994) - Acculturation Mode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enefits of Choral Reading with Language Acquisi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      </a:t>
            </a:r>
            <a:r>
              <a:rPr b="0" lang="en-US" sz="2400" spc="-1" strike="noStrike" u="sng">
                <a:solidFill>
                  <a:srgbClr val="1a11ff"/>
                </a:solidFill>
                <a:uFillTx/>
                <a:latin typeface="Comic Sans MS"/>
              </a:rPr>
              <a:t>Repeated Practi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1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1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omsky (1976):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mprove reading rate and prosodic reading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 LaBerge and Samuels’s (1976): Theory of automatic information processing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 Krashen (1982):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“Repetition is especially necessary for second language learners to acquire their new languag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enefits of Choral Reading with Language Acquisi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 u="sng">
                <a:solidFill>
                  <a:srgbClr val="1a11ff"/>
                </a:solidFill>
                <a:uFillTx/>
                <a:latin typeface="Comic Sans MS"/>
              </a:rPr>
              <a:t>Comprehensible Inpu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Krashen (1982): “The speaker casts a net of structure around current level”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Vygotsky (1978): Notion of a zone proximal development 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ynamic Assessmen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a11ff"/>
                </a:solidFill>
                <a:uFillTx/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1a11ff"/>
                </a:solidFill>
                <a:uFillTx/>
                <a:latin typeface="Comic Sans MS"/>
              </a:rPr>
              <a:t>	</a:t>
            </a:r>
            <a:r>
              <a:rPr b="0" lang="en-US" sz="2400" spc="-1" strike="noStrike" u="sng">
                <a:solidFill>
                  <a:srgbClr val="1a11ff"/>
                </a:solidFill>
                <a:uFillTx/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              </a:t>
            </a:r>
            <a:r>
              <a:rPr b="0" lang="en-US" sz="2400" spc="-1" strike="noStrike" u="sng">
                <a:solidFill>
                  <a:srgbClr val="1a11ff"/>
                </a:solidFill>
                <a:uFillTx/>
                <a:latin typeface="Comic Sans MS"/>
              </a:rPr>
              <a:t>Drama</a:t>
            </a:r>
            <a:r>
              <a:rPr b="0" lang="en-US" sz="2800" spc="-1" strike="noStrike" u="sng">
                <a:solidFill>
                  <a:srgbClr val="1a11ff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Savignon (1983):</a:t>
            </a:r>
            <a:r>
              <a:rPr b="0" lang="en-US" sz="1600" spc="-1" strike="noStrike">
                <a:solidFill>
                  <a:srgbClr val="1a11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“Drama is a natural component of ESL Learning”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Vygotsky (1978):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lationship of drama and literacy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23:39:46Z</dcterms:created>
  <dc:creator>susan chan</dc:creator>
  <dc:description/>
  <dc:language>en-US</dc:language>
  <cp:lastModifiedBy>susan chan</cp:lastModifiedBy>
  <cp:lastPrinted>2009-12-03T21:09:57Z</cp:lastPrinted>
  <dcterms:modified xsi:type="dcterms:W3CDTF">2009-12-20T23:28:23Z</dcterms:modified>
  <cp:revision>34</cp:revision>
  <dc:subject/>
  <dc:title>PowerPoint Presentation</dc:title>
</cp:coreProperties>
</file>